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92BD-9975-42BD-83F6-83FD3A804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pipeline software that works with Chado &amp; other parts of gmod.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 of multiple MODs-press button and suck data out of five different MODs and place into a warehouse for joint quer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 linking to and from MODs using Web Services.  BioMOB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data mining fac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 brow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!! – Eric Just is Czar, Peili will create use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 ENCODING DOCUMENT!!! – Chris Mungal is Cz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Paper – case study paper?  Seminal GMOD paper. Scott to follow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 to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ciumdb case study (new data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-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extpresso)(apollo)(gbrowse)(pathway tools)(pub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from legacy system (dictyb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workshop in the biocura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meeting right after biocurators meeting in menlo park or stanford or berkeley or uc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line) Tuto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group on ortholog group curation – Peter Karp czar (Richard Durbin might want to hel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working group to figure out how to coordinate versi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site revision to make more user friendly – Brian O’Con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nual joint meeting with biocurators, held adjacent to bio-hackathon / four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small semiannual developers meeting – two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SWAT Team – request link on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 temporary tatto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ime in dev meeting to work together, less show &amp; t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how and tell in annual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566-5A1E-4CB0-9A32-3C197E68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0AEB-72D5-457D-B2EC-DCB9CE6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021D-65CB-4A12-9B6E-2A7889A7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0C7-6B50-4900-8CE2-1132B405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AC3-127E-417B-8524-9A0D7224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909-4604-4F59-A97A-B9EA0DC0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F4DA-8B58-4A4E-BBF3-7433F760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AD0-A342-4C5A-B9C3-DAD2F78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D92-B935-4FC4-8B54-9BA96C0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C19-8F5F-417C-9BDB-65D1EF08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AFB-CB68-4C99-9CB8-53789227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53CC-98E0-422B-AAE4-65AF59BA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C0B2-ACA3-4530-9E1B-C38B289C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– 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MOD Home 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35268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ativ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s, strains, mu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ge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s, SAGE, expression patterns, ChIP/chip, interac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 literature curation tools &amp; Textpresso (with Chado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nteraction viewers run on top of Ch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ve BioPi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ty 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operating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har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log groups (Sonnhamm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F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’Reilly Model Organism Database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op 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bottom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dlines &amp;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user-driv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“grand”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MOD PIs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’s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curator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developer/biocurator meet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0:59Z</dcterms:created>
  <dc:creator> </dc:creator>
  <dc:description/>
  <dc:language>en-US</dc:language>
  <cp:lastModifiedBy>Scott Cain</cp:lastModifiedBy>
  <dcterms:modified xsi:type="dcterms:W3CDTF">2005-05-17T23:47:29Z</dcterms:modified>
  <cp:revision>21</cp:revision>
  <dc:subject/>
  <dc:title>GMOD – What Next?</dc:title>
</cp:coreProperties>
</file>